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6C7-5DB8-4D7E-9B3E-8060EC38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EE7-6EFD-4BAB-A98E-85DBB5BA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0BD-B41A-468F-B701-24B0ED57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01A-9517-41FB-AD81-21A4EC0A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0CA-ED8C-426F-B953-E74CB203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C67-4F7C-401B-BB0E-2A4E9400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991-0F42-4A96-A091-D36F13E6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1A1-4E47-4E41-BAD3-323331AA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0514-CF6A-40BD-92EC-3F65D4E5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9C1-4133-4BE0-AA42-60D076F7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C23-6CF1-4DD7-A76B-CE594E21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DED-BA9E-4775-B7C9-90943F4F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8F0D-BFAD-4518-92C4-0DDBF99D0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ment-A Common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Documents and Settings\Owner\My Documents\My Pictures\school\Metric System.bmp"/>
          <p:cNvPicPr/>
          <p:nvPr/>
        </p:nvPicPr>
        <p:blipFill>
          <a:blip r:embed="rId1"/>
          <a:stretch/>
        </p:blipFill>
        <p:spPr>
          <a:xfrm>
            <a:off x="2971800" y="2133720"/>
            <a:ext cx="3094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gure 4: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bserving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proper way to read a meniscus?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297144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the milliliter marking at the bottom  of the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30184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5" descr="http://www.morrisonlabs.com/images/volumexamples/528meniscus.jpg"/>
          <p:cNvPicPr/>
          <p:nvPr/>
        </p:nvPicPr>
        <p:blipFill>
          <a:blip r:embed="rId1"/>
          <a:stretch/>
        </p:blipFill>
        <p:spPr>
          <a:xfrm>
            <a:off x="4267080" y="302904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Volume of Rectangular Soli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,0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,0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523880" y="1371600"/>
          <a:ext cx="6096240" cy="4089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2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on Conversions For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,0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cm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can the volume of a solid object such as a shoebox be measured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easure a solid objects that are regular shaped, a formula for volume can be a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easure a rectangular object such as a shoebox, multiply the object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length, width, and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I unit known for measuring solids with a larger volume is known as the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bic meter (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³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ormula for calculating the volume of a rectangular object is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Length x Width x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is the unit cm³ used when calculating the volume of a rectangular object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multiplying the object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 length, width and height, the cm units are also multi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m x cm x cm = 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a cereal box is 10 centimeters long, 4 centimeters wide, and 20 centimeters high.  What would be the volume of the box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Length x Width x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10 cm x 4 cm x 20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800 c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ading Checkpoint (page 51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a cubic meter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 unit used to measure solids with a larger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ubic meter is equal to the volume of a cube that measures 1 meter on each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  <a:ea typeface="Times New Roman"/>
              </a:rPr>
              <a:t>Volume of Irregular Soli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is the volume of an irregular solid such as a rock measured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easure the volume of an irregular solid, immerse the object in water, and measure how much the water level 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er displacemen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does the water displacement method work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the volume of water in the graduated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fully place the irregular solid into the water.  Record the volume of the water plus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 the volume of the water alone from the volume of the water plus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ount of space an object tak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Comic Sans MS"/>
                <a:ea typeface="Times New Roman"/>
              </a:rPr>
              <a:t>Volum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  <a:ea typeface="Times New Roman"/>
              </a:rPr>
              <a:t>Volume of Liqui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measuring the volume of a liquid, scientists use a unit known as the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er (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measure the volume of smaller liquids, the _________ is used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lliliter (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strument used to measure the volume of liquids is called the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uated cyli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dartmouth.edu/~chemlab/techniques/graphics/flasks/flasks3.gif"/>
          <p:cNvPicPr/>
          <p:nvPr/>
        </p:nvPicPr>
        <p:blipFill>
          <a:blip r:embed="rId1"/>
          <a:stretch/>
        </p:blipFill>
        <p:spPr>
          <a:xfrm>
            <a:off x="5257800" y="2514600"/>
            <a:ext cx="258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instrument has markings that are in increments of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milliliter (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http://dl.clackamas.cc.or.us/ch104-02/images/104vol04.jpg"/>
          <p:cNvPicPr/>
          <p:nvPr/>
        </p:nvPicPr>
        <p:blipFill>
          <a:blip r:embed="rId1"/>
          <a:stretch/>
        </p:blipFill>
        <p:spPr>
          <a:xfrm>
            <a:off x="4800600" y="2286000"/>
            <a:ext cx="34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iscu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urve in the top surface of water in the graduated cyl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23:35Z</dcterms:created>
  <dc:creator>conantt</dc:creator>
  <dc:description/>
  <dc:language>en-US</dc:language>
  <cp:lastModifiedBy>St. Aloysius</cp:lastModifiedBy>
  <dcterms:modified xsi:type="dcterms:W3CDTF">2012-09-20T14:38:57Z</dcterms:modified>
  <cp:revision>12</cp:revision>
  <dc:subject/>
  <dc:title>Measurement-A Common Language</dc:title>
</cp:coreProperties>
</file>